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9D75-DD27-4912-ACA9-70730EDF9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5392-0600-4E05-8D15-BAD4B8D7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D93D-084A-409E-8D73-40AA5E665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BE4B-F2EB-4D47-AE85-1A99F4658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18185-6511-4FAE-B6C4-A48F76136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12ADB-D305-488D-82FC-C558FCC0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A9C10-371D-4C8F-B8A5-1F0AF068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EDD823-92EE-4F4D-ABCB-3017BDEF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AFDFA-E4E9-4AD6-9D1E-ACED81F8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2F4DE-5966-48EA-8398-00867067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DE386B-4BF9-4192-AE1A-E6F02F55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CB68-42BF-44FB-8E76-310FDC64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1D79CE-FA1D-46BB-A712-22873BBE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22DD4-E37B-42A0-8C32-E5735CEF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6A28BC-52F4-4DE2-9459-087365CD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A842A-1414-4BBB-8CCD-C382F93BD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DF5117-3088-41B9-8F0B-CE5275BDA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D2DF-CEF3-4A7E-B59E-55EF0868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13AD-3C39-485A-959F-525FAE39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4656-860E-4517-A19E-60EBC3F4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027D-98EB-41D7-8CF7-35545AB5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EDCE-CC9C-4D2F-9683-F34BC5AA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DC50-3678-4756-A318-D47A9D17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6A21-6FF0-4D2B-94F2-35E9F163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8FDE-655E-4964-A281-4EDEFBE56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12F3-A3AD-43D5-81BE-7B30AFD599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ssion 4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hemical Dependenc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4" descr="samples TND"/>
          <p:cNvPicPr/>
          <p:nvPr/>
        </p:nvPicPr>
        <p:blipFill>
          <a:blip r:embed="rId1">
            <a:lum bright="6000"/>
          </a:blip>
          <a:srcRect l="52001" t="1546" r="2941" b="85641"/>
          <a:stretch/>
        </p:blipFill>
        <p:spPr>
          <a:xfrm>
            <a:off x="0" y="0"/>
            <a:ext cx="9144000" cy="1981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Title"/>
          <p:cNvPicPr/>
          <p:nvPr/>
        </p:nvPicPr>
        <p:blipFill>
          <a:blip r:embed="rId2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1828800" y="2666880"/>
            <a:ext cx="609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hemical Dependency: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rug addicted or alcoholic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555120" y="624852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ession 4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266688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OLERAN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n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ITHDRAW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4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olerance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eeding more and more to get the same feeling or ‘high’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4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ithdrawal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ymptoms people feel when they can’t get the drug they’re addicted t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4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514600" y="243828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= Tri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= Recre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= Abus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= Pinned down (Addicted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4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nable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elping the drug user to us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4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23:21:45Z</dcterms:created>
  <dc:creator>Alica</dc:creator>
  <dc:description/>
  <dc:language>en-US</dc:language>
  <cp:lastModifiedBy>Leah Meza</cp:lastModifiedBy>
  <dcterms:modified xsi:type="dcterms:W3CDTF">2009-11-24T18:36:44Z</dcterms:modified>
  <cp:revision>18</cp:revision>
  <dc:subject/>
  <dc:title>Project TND  (Project Towards No Drug Abuse)</dc:title>
</cp:coreProperties>
</file>